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399D-A598-4DEB-84F9-D47F14763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14A2-531C-4398-9D86-2C5F953D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AFD3-467F-4E07-8F66-F4D3C43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68F0-81AA-4EE4-B9B2-BD292CC28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7A00-0A69-4448-B6EE-43271FA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102B-64B0-4CA2-A225-5B6BC146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044B-864D-46E0-91E1-7BA0FC24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653D-C56E-4DB5-94ED-843DC4B3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3441-7780-40B0-ABA2-1AC74F94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0DFC-EEF6-4A6E-9102-6D5A091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A31E-53AF-440B-9B8A-1125BAC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A818-877E-4878-B742-CC6105CC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2BA-8AD5-49A3-AEB1-05A6E326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crio.org/USGCRP/LaJolla/cover.html" TargetMode="External"/><Relationship Id="rId2" Type="http://schemas.openxmlformats.org/officeDocument/2006/relationships/hyperlink" Target="http://www.gcrio.org/USGCRP/LaJolla/cover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p.edu/catalog/11820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e of th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eder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538020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 the ESIP Federation continues to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tus to create the Federation was on-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well-positioned to continue ou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llenges are to determine, through the planning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do to better serve our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– and cannot – provide to our partners as we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best to configure ourselves to deliver on that 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was a goo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s that led to the creation of the  Federation have been reaffirm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ntities have jo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ederal agencies have joined the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ederal agencies have adopted the Feder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ituation has changed – for th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lanning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, after reviewing USGCRP, NRC recommended: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esponsibility for product generation, publication, and user services should be held by 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ederation of partners,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hich w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utilize an open management approach in which key decisions are made wi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munity leadershi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ncourage innovation and creativity throug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de participation of the scientific, public, and private sectors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 Review of the U.S. Global Change Research Program and NASA’s Mission to Planet Earth/Earth Observing Sy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ational Academy Press, 1995, 96 pp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crio.org/USGCRP/LaJolla/cov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SF Cyber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Performance Computing (HP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, Data Analysis, and Visu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tual Organizations for Distributed Comm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and Workforc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19680" y="1523880"/>
            <a:ext cx="4019400" cy="487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5720" y="6400800"/>
            <a:ext cx="41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sf.gov/pubs/2007/nsf0728/nsf0728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Particip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rom 27 to 106 (and 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 (estim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Science Mission Dir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cience and Applied Scienc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-Side Technology Infu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damental improvements are needed in existing observation and information systems because they only loosely connect three key elements: (1) the r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duce information; (2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es, forecasts, and mode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vide timely and coherent syntheses of otherwise disparate information; and (3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proces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use those analyses and forecasts to produce actions with direct societal benefit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wth:  NRC Decadal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9960" y="617220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Council.  2007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th Science and Applications from Space:  National Imperatives for the Next Decade and Beyo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Washington.  437 p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ap.edu/catalog/11820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 Emph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surrounding climate change have been re-emphas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changes and likely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 of anticipated conseq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ose consequences that cannot be immediately mi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ire improved linkages between knowledge and action as described by the N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of members about the direction, perceived strengths and weaknesses, and future directions of the Federation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with Strategic Partners and other parties to determine their desires and expectations (e.g., NSF, US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f Strategic Plan to Executive Committee (M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Assembly at Summer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put from anybody at any time is welcom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1:29:00Z</dcterms:created>
  <dc:creator>The Office for Arid Lands Studies</dc:creator>
  <dc:description/>
  <dc:language>en-US</dc:language>
  <cp:lastModifiedBy>chuck</cp:lastModifiedBy>
  <dcterms:modified xsi:type="dcterms:W3CDTF">2008-01-09T13:11:39Z</dcterms:modified>
  <cp:revision>17</cp:revision>
  <dc:subject/>
  <dc:title>Diffusion of innovation</dc:title>
</cp:coreProperties>
</file>